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7CE-EEE3-4862-BC06-DF61A6C4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5A4-68B0-4BFB-9B11-39D0C792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3CB-88A9-4521-92AC-FFA4CB41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43D-DF51-4644-8450-65A29080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523E-0DD4-4AAB-BBBB-4FDDD3F2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98BA-D934-4902-AAC3-2DC135EA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2729-D6FC-42CF-94D8-B2D7B58D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9715-BDE7-47CF-A492-654FE5FA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E155-D47C-4FDA-96C2-5D29360E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D73A-6436-4B02-8E37-DAF0C56F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1A72-BF67-4309-A8D4-F9D07E56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2BB-EFA6-4EDC-B0CE-280AB9C4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A73D-EF7A-4813-AB00-73D123DE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53CA-1B24-4EFA-BDB7-1044312B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0730-7B2A-474D-BF73-A7422055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0706-2B5A-4132-875A-B37E57F7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0095-20EA-49BE-87B7-D27B603B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EF1-D5E0-47AE-8702-999A5B05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E65-A1FE-48FD-928E-EBEEAA62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343-A8F0-4AFF-B522-86214092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ADB-387C-4FAC-AD7C-8C4CF4A8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9E4-A9BF-4D08-BDE7-1E74EEEA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76B-CA4B-4388-9FF4-80158BDC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0E1-1C75-4CA8-955E-F3B86C73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5507-0052-43E7-92B8-AE60EB246E0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7723-5F63-4349-AFFA-5662E72FD73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56840" y="1213920"/>
            <a:ext cx="6758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9600" spc="-1" strike="noStrike">
                <a:solidFill>
                  <a:srgbClr val="000066"/>
                </a:solidFill>
                <a:latin typeface="Book Antiqua"/>
              </a:rPr>
              <a:t>Flüsse der Republik Komi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4957920"/>
            <a:ext cx="91440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09040" indent="-382320" algn="ctr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2060"/>
                </a:solidFill>
                <a:latin typeface="Book Antiqua"/>
              </a:rPr>
              <a:t>Die W</a:t>
            </a:r>
            <a:r>
              <a:rPr b="1" i="1" lang="en-US" sz="3200" spc="-1" strike="noStrike">
                <a:solidFill>
                  <a:srgbClr val="002060"/>
                </a:solidFill>
                <a:latin typeface="Book Antiqua"/>
              </a:rPr>
              <a:t>y</a:t>
            </a:r>
            <a:r>
              <a:rPr b="1" i="1" lang="de-DE" sz="3200" spc="-1" strike="noStrike">
                <a:solidFill>
                  <a:srgbClr val="002060"/>
                </a:solidFill>
                <a:latin typeface="Book Antiqua"/>
              </a:rPr>
              <a:t>tschegda verlasst die Republik im Süden und mündet als Nebenfluss in die Norddwina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,</a:t>
            </a:r>
            <a:r>
              <a:rPr b="1" i="1" lang="de-DE" sz="3200" spc="-1" strike="noStrike">
                <a:solidFill>
                  <a:srgbClr val="002060"/>
                </a:solidFill>
                <a:latin typeface="Book Antiqua"/>
              </a:rPr>
              <a:t> die ins Weiße Meer ihr Gewässer treib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8213760" cy="4927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 algn="ctr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3300"/>
                </a:solidFill>
                <a:latin typeface="Book Antiqua"/>
              </a:rPr>
              <a:t>Die Mesen </a:t>
            </a:r>
            <a:r>
              <a:rPr b="1" i="1" lang="en-US" sz="3600" spc="-1" strike="noStrike">
                <a:solidFill>
                  <a:srgbClr val="003300"/>
                </a:solidFill>
                <a:latin typeface="Book Antiqua"/>
              </a:rPr>
              <a:t>z</a:t>
            </a:r>
            <a:r>
              <a:rPr b="1" i="1" lang="de-DE" sz="3600" spc="-1" strike="noStrike">
                <a:solidFill>
                  <a:srgbClr val="003300"/>
                </a:solidFill>
                <a:latin typeface="Book Antiqua"/>
              </a:rPr>
              <a:t>ählt auch </a:t>
            </a:r>
            <a:r>
              <a:rPr b="1" i="1" lang="en-US" sz="3600" spc="-1" strike="noStrike">
                <a:solidFill>
                  <a:srgbClr val="003300"/>
                </a:solidFill>
                <a:latin typeface="Book Antiqua"/>
              </a:rPr>
              <a:t>zu den gr</a:t>
            </a:r>
            <a:r>
              <a:rPr b="1" i="1" lang="de-DE" sz="3600" spc="-1" strike="noStrike">
                <a:solidFill>
                  <a:srgbClr val="003300"/>
                </a:solidFill>
                <a:latin typeface="Book Antiqua"/>
              </a:rPr>
              <a:t>ößten. Sie fließt nicht nur durch die RK sondern auch durch das Archangelsker Gebi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695340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48920" indent="-336960">
              <a:lnSpc>
                <a:spcPct val="100000"/>
              </a:lnSpc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Book Antiqua"/>
              </a:rPr>
              <a:t>Z</a:t>
            </a:r>
            <a:r>
              <a:rPr b="1" i="1" lang="de-DE" sz="4400" spc="-1" strike="noStrike">
                <a:solidFill>
                  <a:srgbClr val="cc3300"/>
                </a:solidFill>
                <a:latin typeface="Book Antiqua"/>
              </a:rPr>
              <a:t>u ihrem Nebenflüssen gehören</a:t>
            </a:r>
            <a:r>
              <a:rPr b="1" i="1" lang="en-US" sz="4400" spc="-1" strike="noStrike">
                <a:solidFill>
                  <a:srgbClr val="cc3300"/>
                </a:solidFill>
                <a:latin typeface="Book Antiqu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4749840" cy="3571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357800" y="3259080"/>
            <a:ext cx="4786200" cy="35989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6"/>
          <p:cNvSpPr/>
          <p:nvPr/>
        </p:nvSpPr>
        <p:spPr>
          <a:xfrm>
            <a:off x="1143000" y="4500720"/>
            <a:ext cx="26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3300"/>
                </a:solidFill>
                <a:latin typeface="Book Antiqua"/>
              </a:rPr>
              <a:t>die P</a:t>
            </a:r>
            <a:r>
              <a:rPr b="1" i="1" lang="en-US" sz="3600" spc="-1" strike="noStrike">
                <a:solidFill>
                  <a:srgbClr val="003300"/>
                </a:solidFill>
                <a:latin typeface="Book Antiqua"/>
              </a:rPr>
              <a:t>ys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899600" y="2428920"/>
            <a:ext cx="403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3300"/>
                </a:solidFill>
                <a:latin typeface="Book Antiqua"/>
              </a:rPr>
              <a:t>die gro</a:t>
            </a:r>
            <a:r>
              <a:rPr b="1" i="1" lang="ru-RU" sz="3600" spc="-1" strike="noStrike">
                <a:solidFill>
                  <a:srgbClr val="003300"/>
                </a:solidFill>
                <a:latin typeface="Times New Roman"/>
              </a:rPr>
              <a:t>ß</a:t>
            </a:r>
            <a:r>
              <a:rPr b="1" i="1" lang="de-DE" sz="3600" spc="-1" strike="noStrike">
                <a:solidFill>
                  <a:srgbClr val="003300"/>
                </a:solidFill>
                <a:latin typeface="Book Antiqua"/>
              </a:rPr>
              <a:t>e Lopt</a:t>
            </a:r>
            <a:r>
              <a:rPr b="1" i="1" lang="en-US" sz="3600" spc="-1" strike="noStrike">
                <a:solidFill>
                  <a:srgbClr val="003300"/>
                </a:solidFill>
                <a:latin typeface="Book Antiqua"/>
              </a:rPr>
              <a:t>yg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000680" y="0"/>
            <a:ext cx="43574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09040" indent="-382320" algn="ctr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660033"/>
                </a:solidFill>
                <a:latin typeface="Book Antiqua"/>
              </a:rPr>
              <a:t>Es gibt noch viele kleine und große Flüsse, </a:t>
            </a:r>
            <a:r>
              <a:rPr b="1" i="1" lang="en-US" sz="3600" spc="-1" strike="noStrike">
                <a:solidFill>
                  <a:srgbClr val="660033"/>
                </a:solidFill>
                <a:latin typeface="Book Antiqua"/>
              </a:rPr>
              <a:t>z.B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4071960" y="1643040"/>
            <a:ext cx="4429080" cy="33228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4429080" y="178596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Book Antiqua"/>
              </a:rPr>
              <a:t>die Wisch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0" y="3357720"/>
            <a:ext cx="4095720" cy="30715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7"/>
          <p:cNvSpPr/>
          <p:nvPr/>
        </p:nvSpPr>
        <p:spPr>
          <a:xfrm>
            <a:off x="357120" y="364320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Book Antiqua"/>
              </a:rPr>
              <a:t>die Hul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4"/>
          <a:stretch/>
        </p:blipFill>
        <p:spPr>
          <a:xfrm>
            <a:off x="5500800" y="4226040"/>
            <a:ext cx="3643200" cy="26319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9"/>
          <p:cNvSpPr/>
          <p:nvPr/>
        </p:nvSpPr>
        <p:spPr>
          <a:xfrm>
            <a:off x="6000840" y="4286160"/>
            <a:ext cx="22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Book Antiqua"/>
              </a:rPr>
              <a:t>die Irw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0" y="4287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Book Antiqua"/>
              </a:rPr>
              <a:t>die Emw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28760" y="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 algn="ctr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66"/>
                </a:solidFill>
                <a:latin typeface="Book Antiqua"/>
              </a:rPr>
              <a:t>Für mich ist die Lusa der beste Fluss. Sie fließt parallel der W</a:t>
            </a:r>
            <a:r>
              <a:rPr b="1" i="1" lang="en-US" sz="3600" spc="-1" strike="noStrike">
                <a:solidFill>
                  <a:srgbClr val="000066"/>
                </a:solidFill>
                <a:latin typeface="Book Antiqua"/>
              </a:rPr>
              <a:t>y</a:t>
            </a:r>
            <a:r>
              <a:rPr b="1" i="1" lang="de-DE" sz="3600" spc="-1" strike="noStrike">
                <a:solidFill>
                  <a:srgbClr val="000066"/>
                </a:solidFill>
                <a:latin typeface="Book Antiqua"/>
              </a:rPr>
              <a:t>tschegd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4524480" cy="4108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4857840" y="1143000"/>
            <a:ext cx="4125960" cy="5500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14800" y="0"/>
            <a:ext cx="5929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660033"/>
                </a:solidFill>
                <a:latin typeface="Book Antiqua"/>
              </a:rPr>
              <a:t>Am Ufer der Lusa liegt mein Heimatdorf. Meine Kindheit, meine Erholung und viele meine Erinnerungen sind mit diesem Fluss verbunden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071960" y="3357720"/>
            <a:ext cx="5072040" cy="350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35496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-360" y="356760"/>
            <a:ext cx="40719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48920" indent="-336960" algn="ctr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3300"/>
                </a:solidFill>
                <a:latin typeface="Book Antiqua"/>
              </a:rPr>
              <a:t>Hier erhebt sich die bekannte Kirche des Prilusskij Gebi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42920" y="3214800"/>
            <a:ext cx="5753160" cy="36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4786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85480" y="-360"/>
            <a:ext cx="84294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0066"/>
                </a:solidFill>
                <a:latin typeface="Book Antiqua"/>
              </a:rPr>
              <a:t>Die Flüsse spielen in der Welt eine große Rolle. Man kann das Leben ohne sie nicht vorstelle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285920" y="195732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786880" cy="6715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129280" y="3142800"/>
            <a:ext cx="40147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70880" indent="-35352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d0d0d"/>
                </a:solidFill>
                <a:latin typeface="Book Antiqua"/>
              </a:rPr>
              <a:t>Die meisten Ströme münden ins Weiße Meer und in die Barentssee</a:t>
            </a:r>
            <a:r>
              <a:rPr b="0" lang="de-DE" sz="4000" spc="-1" strike="noStrike">
                <a:solidFill>
                  <a:srgbClr val="0d0d0d"/>
                </a:solidFill>
                <a:latin typeface="Book Antiqu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0" y="214200"/>
            <a:ext cx="3857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d0d0d"/>
                </a:solidFill>
                <a:latin typeface="Book Antiqua"/>
              </a:rPr>
              <a:t>Die Republik Komi durchfließen mehr als 40 Flüsse</a:t>
            </a:r>
            <a:r>
              <a:rPr b="1" i="1" lang="de-DE" sz="3600" spc="-1" strike="noStrike">
                <a:solidFill>
                  <a:srgbClr val="0d0d0d"/>
                </a:solidFill>
                <a:latin typeface="Book Antiqua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3286080"/>
            <a:ext cx="5281560" cy="357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4195800" y="0"/>
            <a:ext cx="494820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00040" y="214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09040" indent="-382320" algn="ctr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3300"/>
                </a:solidFill>
                <a:latin typeface="Book Antiqua"/>
              </a:rPr>
              <a:t>Die Petschora ist der größte und längste Fluss der R.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071720" y="1428840"/>
            <a:ext cx="7143480" cy="5162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6286320" cy="642276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6429240" y="714240"/>
            <a:ext cx="2714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3300"/>
                </a:solidFill>
                <a:latin typeface="Book Antiqua"/>
              </a:rPr>
              <a:t>Sie tränkt mit ihrem Wasser viele Menschen und Tiere, Äcker, Wiesen, Wälder und Gärt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00040" y="492912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 algn="ctr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660033"/>
                </a:solidFill>
                <a:latin typeface="Book Antiqua"/>
              </a:rPr>
              <a:t>Der mächtige Strom nimmt im Ural seinen Lauf, durch</a:t>
            </a:r>
            <a:r>
              <a:rPr b="1" i="1" lang="en-US" sz="3200" spc="-1" strike="noStrike">
                <a:solidFill>
                  <a:srgbClr val="660033"/>
                </a:solidFill>
                <a:latin typeface="Book Antiqua"/>
              </a:rPr>
              <a:t>z</a:t>
            </a:r>
            <a:r>
              <a:rPr b="1" i="1" lang="de-DE" sz="3200" spc="-1" strike="noStrike">
                <a:solidFill>
                  <a:srgbClr val="660033"/>
                </a:solidFill>
                <a:latin typeface="Book Antiqua"/>
              </a:rPr>
              <a:t>ieht das Territorium der Petschora</a:t>
            </a:r>
            <a:r>
              <a:rPr b="1" i="1" lang="en-US" sz="3200" spc="-1" strike="noStrike">
                <a:solidFill>
                  <a:srgbClr val="660033"/>
                </a:solidFill>
                <a:latin typeface="Book Antiqua"/>
              </a:rPr>
              <a:t>-</a:t>
            </a:r>
            <a:r>
              <a:rPr b="1" i="1" lang="de-DE" sz="3200" spc="-1" strike="noStrike">
                <a:solidFill>
                  <a:srgbClr val="660033"/>
                </a:solidFill>
                <a:latin typeface="Book Antiqua"/>
              </a:rPr>
              <a:t>Tiefebene im Norden und</a:t>
            </a:r>
            <a:r>
              <a:rPr b="1" i="1" lang="ru-RU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de-DE" sz="3200" spc="-1" strike="noStrike">
                <a:solidFill>
                  <a:srgbClr val="660033"/>
                </a:solidFill>
                <a:latin typeface="Book Antiqua"/>
              </a:rPr>
              <a:t>mündet in die Barentsse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85880" y="214200"/>
            <a:ext cx="800100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10400" indent="-30816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2060"/>
                </a:solidFill>
                <a:latin typeface="Book Antiqua"/>
              </a:rPr>
              <a:t>Die Petschora hat solche Nebenflüsse wie</a:t>
            </a:r>
            <a:r>
              <a:rPr b="1" i="1" lang="en-US" sz="4000" spc="-1" strike="noStrike">
                <a:solidFill>
                  <a:srgbClr val="002060"/>
                </a:solidFill>
                <a:latin typeface="Book Antiqu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1214280"/>
            <a:ext cx="4714920" cy="307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4286160" y="3662280"/>
            <a:ext cx="4857840" cy="31957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779040" y="435780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d0d0d"/>
                </a:solidFill>
                <a:latin typeface="Book Antiqua"/>
              </a:rPr>
              <a:t>die Us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857920" y="307368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Calibri"/>
                <a:ea typeface="Calibri"/>
              </a:rPr>
              <a:t>der 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1" i="1" lang="de-DE" sz="3600" spc="-1" strike="noStrike">
                <a:solidFill>
                  <a:srgbClr val="000000"/>
                </a:solidFill>
                <a:latin typeface="Calibri"/>
                <a:ea typeface="Calibri"/>
              </a:rPr>
              <a:t>l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1" i="1" lang="de-DE" sz="3600" spc="-1" strike="noStrike">
                <a:solidFill>
                  <a:srgbClr val="000000"/>
                </a:solidFill>
                <a:latin typeface="Calibri"/>
                <a:ea typeface="Calibri"/>
              </a:rPr>
              <a:t>ts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Book Antiqua"/>
              </a:rPr>
              <a:t>und die schöne Ishm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4786200" y="928800"/>
            <a:ext cx="4048200" cy="3036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3"/>
          <a:stretch/>
        </p:blipFill>
        <p:spPr>
          <a:xfrm>
            <a:off x="2143080" y="3794040"/>
            <a:ext cx="450072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8584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 algn="ctr">
              <a:lnSpc>
                <a:spcPct val="10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660033"/>
                </a:solidFill>
                <a:latin typeface="Book Antiqua"/>
              </a:rPr>
              <a:t>Die Hauptstadt der RK Syktywkar liegt am Ufer der Syssola, die ihre Quelle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1071720"/>
            <a:ext cx="515952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3367080" y="3257640"/>
            <a:ext cx="5776920" cy="3600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5186160" y="1000080"/>
            <a:ext cx="362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660033"/>
                </a:solidFill>
                <a:latin typeface="Book Antiqua"/>
              </a:rPr>
              <a:t>in Kirower Gebi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660033"/>
                </a:solidFill>
                <a:latin typeface="Book Antiqua"/>
              </a:rPr>
              <a:t>h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8:05:45Z</dcterms:created>
  <dc:creator>Катерина</dc:creator>
  <dc:description/>
  <dc:language>en-US</dc:language>
  <cp:lastModifiedBy>Катерина</cp:lastModifiedBy>
  <dcterms:modified xsi:type="dcterms:W3CDTF">2011-10-30T17:57:18Z</dcterms:modified>
  <cp:revision>43</cp:revision>
  <dc:subject/>
  <dc:title>Слайд 1</dc:title>
</cp:coreProperties>
</file>